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0D90-7AED-49DC-870D-D5CFA1FBE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CEDC-09D6-4233-BD4B-4B79390F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442D-C898-4314-9451-F8DE8B40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0BCA-5921-48EE-815C-994EFB006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7BC9-5C17-4D95-8864-9799EC79B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D699-A8C1-42C2-A1AF-5382C14C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2245-158A-4702-8580-0909EF1E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CF2E-229B-4FA7-936C-72A37F82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CD56-5A49-4523-9D9A-72EEF101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7E72-2B3A-4296-A2C1-A7B0B8CA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E2F5-801C-44A1-8286-0AD637EA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4B1E-CF15-4465-A165-F01210E2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CF4D-314F-4F40-9EE5-95280B08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B691-32F7-43F2-B04E-7A347DF7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6929-D2A8-4FD8-BA27-1FCACAF4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EFA4-EE0B-4247-9A47-BDB598662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9CBB-A359-4000-A176-F3DB89D09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4C53-978A-4FDA-B718-271CB3FB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C246-833B-41E6-882C-B3F16B9C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7612-C656-4C39-A11C-9F6C03DC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4F59-5B29-4CA8-95E4-DEE797C5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CCCA-B04E-4033-B701-DD48091D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996F-3E77-48C1-B6B0-309935F9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2578-D196-4BEB-AB4A-3863FDBC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4510-B137-475D-ADAB-0E95F50B38BD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4BD2-B1C9-457C-8522-BC3E1CDB7C7C}" type="slidenum"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609480"/>
            <a:ext cx="770256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Un savoir S’entraîner scolaire : 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c’est-à-dire ?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53737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posé : Raymond DHELLEMMES - Association des Enseignants EPS (AEEPS). Villeneuve d’Ascq, le 9 juin 200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8984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3.2. Des principes d’efficacité connus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ncernant cette action : les principaux</a:t>
            </a:r>
            <a:br>
              <a:rPr sz="2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inuité (gestion de temps d’activité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gressivité (des paramètres de charg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daptation (aux individus, aux ressour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ternance (dépense réparation récupé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pécification (aux visées de perform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3.3. Des interrogations utiles pour une EPS à venir : Une ou des cultures de l’entraînement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t plus spécifiquement, quand il est tourné la recherche de transformation de propriétés corporell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N’appartient pas en propre au milieu sportif (musique, danse théâtre art du cir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Décliné sous des formes différentes dans d’autres civilisations (ta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ï chi, yoga) avec une même intention : l’articulation états de conscience/ états somat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Marqué historiquement dans ses rapports avec les conceptions du corps, les connaissances scientifiques permettant d’identifier les propriétés de l’organisme, les performances phys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1.3.3. Des interrogations utiles…  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histoire de l’EPS est marquée par cette question sous le vocable des METHODES. Les gymnastiques pour adultes plus ou moins récentes éga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réticences récentes à l’introduction d’une culture scolaire de l’entraînement sont-elles dues à la crainte d’un retour aux « méthodes »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is hors l’école, un développement massif des pratiques de forme que l’EPS ne peut ignor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L’entraînement comme pratique régulière : une culture, une lente conquête de l’homme. Pour se construire des pouvoirs moteurs nouveaux : un rapport à soi, à l’effort consenti, de nature téléologiqu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conclure ce premier poi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atiques et savoirs de l’entraînement sportif ne sont pas importables directement dans le monde scola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« savoir S’entraîner » n’existe pas en tant qu’objet directement saisiss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 arrière plan des pratiques, de l’action : « S’entraîner » une ACTIVITE singulière complexe, des composantes, des processus culturels à identif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élucidation de cette « activité » l’identification de 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« composantes » : une étape indispensable pour envisager un « savoir S'entraîner » sco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609120"/>
            <a:ext cx="791856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2. L’entraînement comme « activité</a:t>
            </a:r>
            <a:r>
              <a:rPr b="1" lang="fr-FR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» :</a:t>
            </a:r>
            <a:br>
              <a:rPr sz="28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 - une activité adaptativ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umaine complexe : ses composantes.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2. - savoir S’entraîner : un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mpétence qui se construit.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3. Certains traits de cette activité sont -ils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ccessibles à l’écol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1. - une activité adaptativ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humain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mplexe : ses compos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1345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1. Composantes anthropologique et symbo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2. Composantes « sensitive et sensori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3. Composantes biologiques (bio fonctionnel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4. Composante affective, motiv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5. Composante cog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2.1.1. Composantes anthropologique, symboliq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’entra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, c’est « Se » faire advenir, se concevoir différemment dans le fu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L’intentionnalité de l’acte d’entraînement est de </a:t>
            </a:r>
            <a:r>
              <a:rPr b="1" i="1" lang="fr-FR" sz="2400" spc="-1" strike="noStrike" u="sng">
                <a:solidFill>
                  <a:srgbClr val="333399"/>
                </a:solidFill>
                <a:uFillTx/>
                <a:latin typeface="Verdana"/>
                <a:ea typeface="Times New Roman"/>
              </a:rPr>
              <a:t>« se faire advenir »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d’être en même temps sujet et objet de l’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2. Composantes « sensitive et sensori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Le pratiquant effectue une «Lecture sensori-motrice et cognitiv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de</a:t>
            </a:r>
            <a:r>
              <a:rPr b="1" i="1" lang="fr-FR" sz="2800" spc="-1" strike="noStrike">
                <a:solidFill>
                  <a:srgbClr val="333399"/>
                </a:solidFill>
                <a:latin typeface="Arial"/>
              </a:rPr>
              <a:t>…«</a:t>
            </a:r>
            <a:r>
              <a:rPr b="1" i="1" lang="fr-FR" sz="2800" spc="-1" strike="noStrike" u="sng">
                <a:solidFill>
                  <a:srgbClr val="333399"/>
                </a:solidFill>
                <a:uFillTx/>
                <a:latin typeface="Arial"/>
              </a:rPr>
              <a:t> l’expérience énergétiqu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( il construit un affinement du ressenti et de son expression par une « didactique du sensible », par une « histoire du corps sensible</a:t>
            </a:r>
            <a:r>
              <a:rPr b="0" i="1" lang="fr-FR" sz="3200" spc="-1" strike="noStrike">
                <a:solidFill>
                  <a:srgbClr val="333399"/>
                </a:solidFill>
                <a:latin typeface="Arial"/>
              </a:rPr>
              <a:t> » 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3. Composantes biologiques (bio fonctionnel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3316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Données scientifiques actuelles sur le développement des qualités d’endurance, de force/puissance chez les adolescent-e-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sur les </a:t>
            </a:r>
            <a:r>
              <a:rPr b="1" i="1" lang="fr-FR" sz="2800" spc="-1" strike="noStrike" u="sng">
                <a:solidFill>
                  <a:srgbClr val="333399"/>
                </a:solidFill>
                <a:uFillTx/>
                <a:latin typeface="Arial"/>
              </a:rPr>
              <a:t>conditions de la sollicitation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du système énergétique de la contraction musculaire, sur les possibilités de mesure de sa transformation avec tests de terr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4. Composante affective, motiv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Des motifs spontanés d’un « se dépenser physiquement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fr-FR" sz="2000" spc="-1" strike="noStrike" u="sng">
                <a:solidFill>
                  <a:srgbClr val="333399"/>
                </a:solidFill>
                <a:uFillTx/>
                <a:latin typeface="Arial"/>
              </a:rPr>
              <a:t>à des motifs plus constru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Les jeux d’exercice (Château), fonctionnels (Wallon), de vertige (Caillois) l’épreuve (B. Jeu), les « promenades » : </a:t>
            </a: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« c’est à la promenade que j’écrit dans mon cerveau »</a:t>
            </a: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 (Rousseau</a:t>
            </a: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Des pratiques ancestrales liées à l’action sur les corps (le non mouvement, le sauna, les hammams…révèlent les fondements d’un tel proj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Des pratiques maintenant sportives, initialement liées à la recherche d’états physiques (boxe française, culture physique de Desbonne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Une culture du physique liée à pour les jeunes, à des objectifs de développement EVALUABLES (la mesure de soi contribue probablement à la construction de son identit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845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 savoir S’entraîner scolaire : c’est-à-dire 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5184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 introduction le but du propos, et… ce que je ne traite p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traînement : des « pratiques » (s’entraîner, entraîner), qui s’appuient sur des savoir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traînement comme « activité »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une activité adaptative humaine compl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savoir S’entraîner : une compétence qui se const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certains traits de cette activité sont-ils accessibles à l’écol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avoir S’entraîner, un objet d’enseignement scolair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ourquoi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ment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 quelles conditions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conclusion l’EPS et ses acteurs comme ressource éducative remarquable… et méconnu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1.5. Composante cog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« Il s’agit d’établir un contrôle sur les états d’un objet en cours de transformation et impliquant des …anticipations… et rétroactions à réaliser sur des états 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De  rendre conscient le contrôle de l’ac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- Terme adopté 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« </a:t>
            </a:r>
            <a:r>
              <a:rPr b="1" i="1" lang="fr-FR" sz="2400" spc="-1" strike="noStrike" u="sng">
                <a:solidFill>
                  <a:srgbClr val="333399"/>
                </a:solidFill>
                <a:uFillTx/>
                <a:latin typeface="Arial"/>
              </a:rPr>
              <a:t>procéduralisation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 »</a:t>
            </a: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 (G. Malgla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Des outils extraordinaires pour conduire ce travail réflexif : les ressources de l’informa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2.2. « savoir S’entraîner » : une compétence qui se construit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28600"/>
            <a:ext cx="79898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.2. - savoir S’entraîner : une compétence qui se construit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es composantes s’organisent dans l’expérience personnelle dans un « parcours » semé d’embûches (rapport à l’effort, se projeter vers l’avenir, faire évoluer ses motivations…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 période de développement il est plus ou moins pertinent d’intervenir sur telle ou telle ressou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« expériences » de dépense physique hors et dans l’école se coordonnent-t-elles pour faire sen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a question du « réinvestissement » de ce qu’offre l’apprentissage de l’entra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ment dans d’autres champ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n conclusion ce second point : certains traits de cette activité sont - ils accessibles à l’écol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304920"/>
            <a:ext cx="844704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conclusion ce second point : certains traits de cette activité sont - ils accessibles à l’écol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 ne sont pas les pratiques qu’il faut transposer m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« l’expérience de l’entraînement », l’activité humaine qui l’accompagne, dans les conditions scola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utes les «spécialités » sont bonnes à prendre tant qu’elles permettent cette « expérience 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expérience ne suffit pas : une « relecture compréhensive » s’impose ! Condition pour transformer cette expérience en compétenc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7738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2.3. En conclusion ce second point…  su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atiques scolaires d'entraînement doivent donc être conçues, à partir des contraintes et des ressources que propose le milieu scolaire et les caractéristiques de élè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« Savoir s’entraîner » comme aboutissement d’un parcours de formation… Sur un « bruit de fond » permanent, des périodes favorables pour un enseignement systématique. Exemple : en quatrième au collège. En première au lycé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609120"/>
            <a:ext cx="82234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Savoir S’entraîner Physiquement, un objet d’enseignement scolair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?</a:t>
            </a:r>
            <a:br>
              <a:rPr sz="2800"/>
            </a:b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1. Pourquoi ?</a:t>
            </a: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jeu majeur d’un « savoir intervenir » sur les propriétés de son fonctionnement corporel : l’éducation à la santé.</a:t>
            </a:r>
            <a:br>
              <a:rPr sz="1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2. Comment ?</a:t>
            </a:r>
            <a:br>
              <a:rPr sz="28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ndre l’élève acteur, forcément !</a:t>
            </a:r>
            <a:br>
              <a:rPr sz="20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3. A quelles conditions ?</a:t>
            </a: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n parcours de formation perti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1. Un savoir S’entraîner scolaire : Pourquoi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1. Pourquoi ?</a:t>
            </a:r>
            <a:br>
              <a:rPr sz="1800"/>
            </a:br>
            <a:br>
              <a:rPr sz="32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njeu majeur d’un « savoir intervenir » sur les propriétés de son fonctionnement corporel 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’éducation à la santé.</a:t>
            </a: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Quelques définitions…(O.M.S. + divers)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La « santé » comme capacité d’adaptation, comme possibilité d’affrontement des situations de vie, comme sentiment de bien-être (comme rapport à soi, à autrui, au monde social, à l’environnement)</a:t>
            </a:r>
            <a:br>
              <a:rPr sz="2800"/>
            </a:br>
            <a:br>
              <a:rPr sz="3200"/>
            </a:b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« Pour chaque homme, c’est d’avoir les moyens de tracer le cheminement personnel vers le bien-être physique psychique et moral » </a:t>
            </a:r>
            <a:br>
              <a:rPr sz="1200"/>
            </a:br>
            <a:br>
              <a:rPr sz="1200"/>
            </a:br>
            <a:br>
              <a:rPr sz="1800"/>
            </a:b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fr-FR" sz="2000" spc="-1" strike="noStrike" u="sng">
                <a:solidFill>
                  <a:srgbClr val="333399"/>
                </a:solidFill>
                <a:uFillTx/>
                <a:latin typeface="Arial"/>
              </a:rPr>
              <a:t>L’éducation pour la santé contribue à la construction par les élèves d’indicateurs perceptuels, fonctionnels et adaptatifs d’un « état de santé » (bien être)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Suite  Pourquoi un « savoir S’entra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 à l’école ?…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 1. On sait qu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jeunesse reste sensible aux conduites addictives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de toute nature : un impératif social de lutte contre cette tendance.</a:t>
            </a: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2.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ace aux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versités des cultures des élèves concernant leur rapport au corps, leur vécu et leurs habitus touchant à l’effort et à la dépense physique :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e exigence de démocratisation</a:t>
            </a:r>
            <a:br>
              <a:rPr sz="2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3.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école comme lieu privilégié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 possibilité d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ise en synergie des connaissanc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our travailler l’image que les élèves ont d’eux mêmes, leur identité de genre 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e possibl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efficacité</a:t>
            </a:r>
            <a:br>
              <a:rPr sz="18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n introduction le but du propos, et…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e qui n’est pas traité.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844280"/>
            <a:ext cx="836784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Le but : tenter de démontrer qu’à certaines conditions, il est possible de transmettre aux élèves un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« savoir S’entraîner »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Ces conditions supposent des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ruptures avec des conceptions exclusivement « sportives »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de l’entraînement au profit d’une approche  anthropologique de  « l’expérience physique » de l’entraînemen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Je ne suis pas spécialisé dans la physiologie de l’entraînement sportif. Je travaille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les contenus de l’EPS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, dans leurs relations avec les cultures corporelles qu’il est possible et souhaitable de communiquer aux élèv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Suite  Pourquoi un « savoir S’entra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 à l’école ?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1676520"/>
            <a:ext cx="85341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4.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royances et représentation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des élèves à propos de leur fonctionnement corpore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’école comme lieu de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ise à distance, de rationalisation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800"/>
            </a:br>
            <a:br>
              <a:rPr sz="1600"/>
            </a:b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.5.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’adolescence et la fabrication de la sédentarité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 Des corps instrumentés sur le pôle de la sexualisat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confusions entretenues : sensations émotions sentiments :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’école comme lieu d’ouverture culturell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ais l’EPS n’est pas « propriétaire » de la formation corporelle des élèves (plus de 50%  pratiquent des APSA en dehors de l’école). Par contre, elle doit exercer une responsabilité  particulière et en évaluer ses effets !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2. Un savoir S’entraîner scolaire : </a:t>
            </a: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mment 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2. Comment ?</a:t>
            </a: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Des programm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et des contenus (lycé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modalités d’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évalu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référentiel lycé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océdés d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motiv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motifs personnalisé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recommandations « transversales » (collè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démarches 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’élève construit ses connaissances par l’action et la prise d’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activité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ous forme de « procédés » (collège), ou de spécialités (lycées) transposées dans le monde scol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mise en perspective d’un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culture scolaire du «savoir S’entra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îner »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les ASD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3. Un savoir S’entraîner scolaire :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 quelles conditions 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3. A quelles conditions 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parcours de formation pertinent et continu des élèves, obligation scolaire dans une visée de globalité d’appro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prises de consciences politiques de la force de frappe que représente la masse des enseignants E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commande claire des pouvoirs publics vers le « corps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recherches sur les conditions de transformation et de suivi de l’état sanitaire de la jeune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programmes d’action pluridisciplinaires et inter catégoriels initiés dans les régions. (Cf. LI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 la formation continue alimentée par des travaux d’équipe de recherche pluri disciplinaires (Cf. ici dans les années 19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clusions de l’expo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. Des questions en sus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 Des enjeux économiques…au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 Que vive une EP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1. Des questions en sus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s de continuité entre les cycles d’enseign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PS exclue du socle des fondamentaux au collè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s difficultés pour fournir des repères sous forme de normes correspondant au projet éducatif du « savoir S’entra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champ en développement mais insuffisamment « mature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PS largement absente des discours politiques et médiatiques, victime des confusions avec le sport, l’activité phys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2. Des enjeux économiques au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ertes l’EPS coûte cher… Mai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itation extraite du somment mondial de l’EPS (Kidd B. , Berlin 1999)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 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égliger l’éducation Physique se révèlera plus coûteux que de l’enseigner…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1 $ investi, gain de productivité de 2 à 5 $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15801a"/>
                </a:solidFill>
                <a:uFillTx/>
                <a:latin typeface="Arial"/>
              </a:rPr>
              <a:t>3. Que vive une EPS</a:t>
            </a:r>
            <a:r>
              <a:rPr b="1" lang="fr-FR" sz="3600" spc="-1" strike="noStrike" u="sng">
                <a:solidFill>
                  <a:srgbClr val="009999"/>
                </a:solidFill>
                <a:uFillTx/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Ouverte de façon critique sur toutes les cultures relatives aux activités corporel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Soutenue par des enseignants engagés et convaincus de leur mission (rôle essentiel des organisations professionnel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Accompagnée par les collectivités territoriales pour la transformation des conditions de pratique, par l’encadrement de proxim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Prise en considération par la classe politique, par les médias : des horaires, des attentes à formuler vers les acteurs de l’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98984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Avec tous mes remerciements pour votre attention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pour votre accueil chaleureux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846920" cy="31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L’entraînement : des « pratiques » (s’entraîner, entraîner), qui s’appuient sur des savoirs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569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. L’entraînement : des pratiques (s’entraîner, entraîner), qui </a:t>
            </a:r>
            <a:r>
              <a:rPr b="1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s’appuient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 sur des savoir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830556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1. Quelques termes utilisés spontané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2. Un processus de  historique de construction et d’articulation des savoirs empiriques et scientifiq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3. Des pratiques, des savoirs : le « S’entraîner » comme une action complexe à défin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37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1. Quelques termes utilisés spontanément,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qu’il est nécessaire de différencier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915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comme connaissances mobilisabl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traîn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re entraîné par…(la mode du « coaching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entraînement (pas seulement sporti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entraîner comme compétence « professionn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’entraî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S’entraîner comme résultat d’une pratiqu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atiques, d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activité ( des processus), en arrière plan de c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2. Un processus de  historique de construction et d’articulation des savoirs empiriques et scientif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construction des savoirs de l’entraînement sportif : une histoire significative pour l’éduc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dépassement de croyances voir de dogmes (pulsations 1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incorporation de connaissances scientifiques concernant les processus invisibles à 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dialogue praticiens/chercheur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savoirs empiriques construits dans la relation entraîneur athlè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3. Des pratiques, des savoirs : le « S’entraîner » comme action complexe : quelle actio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1.3.1. Caractéristiques de cet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 1.3.2. Des principes d’efficacité connu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cernant cet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1.3.3. Une ou des cultures de l’entraîne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?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08000" y="1197000"/>
          <a:ext cx="9036000" cy="5173560"/>
        </p:xfrm>
        <a:graphic>
          <a:graphicData uri="http://schemas.openxmlformats.org/drawingml/2006/table">
            <a:tbl>
              <a:tblPr/>
              <a:tblGrid>
                <a:gridCol w="2987640"/>
                <a:gridCol w="6048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’entraîn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…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Action d’intervention d’un pratiquant sur ses propres ressources bio-fonctionne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Qui utilise des  </a:t>
                      </a: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MOYEN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S </a:t>
                      </a:r>
                      <a:r>
                        <a:rPr b="1" lang="fr-FR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définis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pour intervenir su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XEMPLE : NATATION,  COURSE A PIED DE  DISTANCE…Comme moy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Un OBJET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déterminé en vue 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  </a:t>
                      </a:r>
                      <a:r>
                        <a:rPr b="1" lang="fr-FR" sz="16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FONCTIONNEMENT AÉROBIE du système énergétique de la contraction muscul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le TRANSFOR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et d’obten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 développement de la capacité d’endur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un RESULTAT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attendu estimé au travers d’indices objectifs </a:t>
                      </a: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de la transfor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s élèves se fixent des caractéristiques de paramètres de charge à réaliser. Ils prévoient 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ffets attendus  sur </a:t>
                      </a:r>
                      <a:r>
                        <a:rPr b="1" lang="fr-FR" sz="1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  <a:ea typeface="Arial"/>
                        </a:rPr>
                        <a:t>divers indices objectifs (mesure, tests) et subjectifs (pulsations cardiaques, ressentis)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971640" y="18900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33336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1.3.1. Caractéristiques de cette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rAYMOND dlm</cp:lastModifiedBy>
  <dcterms:modified xsi:type="dcterms:W3CDTF">2006-06-07T08:49:08Z</dcterms:modified>
  <cp:revision>28</cp:revision>
  <dc:subject/>
  <dc:title>PowerPoint Presentation</dc:title>
</cp:coreProperties>
</file>