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7234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976F3-2C5C-4A7D-A8F2-06E20A00C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FEF94-A22C-4BC7-9EDB-9FA2CC5E0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EAA33-A7ED-4741-B94F-E023E9EE2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ECAE2-210E-4F80-9FF6-FCDECE8EA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8FF7D-2A6A-4189-B262-CAD2C6EB5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91E73-5C3E-4738-B5CD-A257A7A70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83F29-5749-44BE-BFC5-48A72B8C6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2570C-34EE-4237-80C6-FACAD1CF8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16012-1450-4A6B-BC15-B205B7F03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7DF0F-FE0E-414C-825B-19FADA258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844B7-1850-4937-A701-A724E5BE5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FB524-2CA2-4CEC-812C-356ADB445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2295B-6993-4C05-9C24-4DC0FC8C7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D2288-53FD-4F63-8B0E-406975ECE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291E1-5ACF-49B0-B003-B8B496906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6FC27-E301-4753-94B1-910D4E0C6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BE83A-3D51-4BB6-8369-CE796DF8E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753F0-7FE5-453E-9BF6-D35DEA696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7D77F-B9AE-4B4C-A156-23C3239D1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24B91-E46D-4B56-A58E-34A2DF8DC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E2A4B-2D97-4C68-ADEE-6EE909766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35678-9D80-4061-8F54-103F2E349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C14FA-82C4-435D-9FDB-F83157A07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4CA1A-AB25-4FE3-BF16-14A113048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Osak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Osak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17D17-8B2C-465E-9651-4FED7134607D}" type="slidenum">
              <a:rPr b="0" lang="fr-FR" sz="1400" spc="-1" strike="noStrike">
                <a:solidFill>
                  <a:srgbClr val="000000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Osak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Osak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3617C-97C7-47D3-A517-40EA5209F0DA}" type="slidenum">
              <a:rPr b="0" lang="de-DE" sz="1400" spc="-1" strike="noStrike">
                <a:solidFill>
                  <a:srgbClr val="000000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55640" y="609480"/>
            <a:ext cx="7702560" cy="40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</a:rPr>
              <a:t>Un savoir S’entraîner scolaire : </a:t>
            </a:r>
            <a:br>
              <a:rPr sz="6000"/>
            </a:br>
            <a:r>
              <a:rPr b="0" lang="fr-FR" sz="6000" spc="-1" strike="noStrike">
                <a:solidFill>
                  <a:srgbClr val="000000"/>
                </a:solidFill>
                <a:latin typeface="Arial"/>
              </a:rPr>
              <a:t>c’est-à-dire ?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55640" y="537372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Exposé : Raymond DHELLEMMES - Association des Enseignants EPS (AEEPS). Villeneuve d’Ascq, le 9 juin 2006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7989840" cy="14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1.3.2. Des principes d’efficacité connus </a:t>
            </a: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concernant cette action : les principaux</a:t>
            </a:r>
            <a:br>
              <a:rPr sz="2400"/>
            </a:b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Continuité (gestion de temps d’activité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Progressivité (des paramètres de charge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Adaptation (aux individus, aux ressourc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Alternance (dépense réparation récupéra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Spécification (aux visées de performanc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1.3.3. Des interrogations utiles pour une EPS à venir : Une ou des cultures de l’entraînement 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Et plus spécifiquement, quand il est tourné la recherche de transformation de propriétés corporelles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- N’appartient pas en propre au milieu sportif (musique, danse théâtre art du cirq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- Décliné sous des formes différentes dans d’autres civilisations (ta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ï chi, yoga) avec une même intention : l’articulation états de conscience/ états somatiqu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- Marqué historiquement dans ses rapports avec les conceptions du corps, les connaissances scientifiques permettant d’identifier les propriétés de l’organisme, les performances physiq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Arial"/>
              </a:rPr>
              <a:t>1.3.3. Des interrogations utiles…  su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L’histoire de l’EPS est marquée par cette question sous le vocable des METHODES. Les gymnastiques pour adultes plus ou moins récentes égale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Les réticences récentes à l’introduction d’une culture scolaire de l’entraînement sont-elles dues à la crainte d’un retour aux « méthodes »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Mais hors l’école, un développement massif des pratiques de forme que l’EPS ne peut ignor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 u="sng">
                <a:solidFill>
                  <a:srgbClr val="000000"/>
                </a:solidFill>
                <a:uFillTx/>
                <a:latin typeface="Arial"/>
              </a:rPr>
              <a:t>L’entraînement comme pratique régulière : une culture, une lente conquête de l’homme. Pour se construire des pouvoirs moteurs nouveaux : un rapport à soi, à l’effort consenti, de nature téléologique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920"/>
            <a:ext cx="7620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Pour conclure ce premier point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Pratiques et savoirs de l’entraînement sportif ne sont pas importables directement dans le monde scolai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Un « savoir S’entraîner » n’existe pas en tant qu’objet directement saisissa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En arrière plan des pratiques, de l’action : « S’entraîner » une ACTIVITE singulière complexe, des composantes, des processus culturels à identifi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L’élucidation de cette « activité » l’identification de s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« composantes » : une étape indispensable pour envisager un « savoir S'entraîner » scola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9640" y="609120"/>
            <a:ext cx="7918560" cy="53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0000"/>
                </a:solidFill>
                <a:uFillTx/>
                <a:latin typeface="Arial"/>
              </a:rPr>
              <a:t>2. L’entraînement comme « activité</a:t>
            </a:r>
            <a:r>
              <a:rPr b="1" lang="fr-FR" sz="3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fr-FR" sz="2800" spc="-1" strike="noStrike" u="sng">
                <a:solidFill>
                  <a:srgbClr val="000000"/>
                </a:solidFill>
                <a:uFillTx/>
                <a:latin typeface="Arial"/>
              </a:rPr>
              <a:t>» :</a:t>
            </a:r>
            <a:br>
              <a:rPr sz="2800"/>
            </a:b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600"/>
            </a:b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2.1. - une activité adaptative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humaine complexe : ses composantes.</a:t>
            </a:r>
            <a:br>
              <a:rPr sz="2400"/>
            </a:b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2.2. - savoir S’entraîner : une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compétence qui se construit.</a:t>
            </a:r>
            <a:br>
              <a:rPr sz="2400"/>
            </a:b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2.3. Certains traits de cette activité sont -ils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accessibles à l’école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2.1. - une activité adaptative 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humaine 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complexe : ses composa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39640" y="2204640"/>
            <a:ext cx="8134560" cy="41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2.1.1. Composantes anthropologique et symbol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2.1.2. Composantes « sensitive et sensorielle 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2.1.3. Composantes biologiques (bio fonctionnell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2.1.4. Composante affective, motivationnel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2.15. Composante cogni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500" spc="-1" strike="noStrike">
                <a:solidFill>
                  <a:srgbClr val="000000"/>
                </a:solidFill>
                <a:latin typeface="Arial"/>
              </a:rPr>
              <a:t>2.1.1. Composantes anthropologique, symboliqu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S’entra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îner, c’est « Se » faire advenir, se concevoir différemment dans le fut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333399"/>
                </a:solidFill>
                <a:latin typeface="Verdana"/>
                <a:ea typeface="Times New Roman"/>
              </a:rPr>
              <a:t>	</a:t>
            </a:r>
            <a:r>
              <a:rPr b="0" i="1" lang="fr-FR" sz="2400" spc="-1" strike="noStrike">
                <a:solidFill>
                  <a:srgbClr val="333399"/>
                </a:solidFill>
                <a:latin typeface="Verdana"/>
                <a:ea typeface="Times New Roman"/>
              </a:rPr>
              <a:t>L’intentionnalité de l’acte d’entraînement est de </a:t>
            </a:r>
            <a:r>
              <a:rPr b="1" i="1" lang="fr-FR" sz="2400" spc="-1" strike="noStrike" u="sng">
                <a:solidFill>
                  <a:srgbClr val="333399"/>
                </a:solidFill>
                <a:uFillTx/>
                <a:latin typeface="Verdana"/>
                <a:ea typeface="Times New Roman"/>
              </a:rPr>
              <a:t>« se faire advenir »</a:t>
            </a:r>
            <a:r>
              <a:rPr b="0" i="1" lang="fr-FR" sz="2400" spc="-1" strike="noStrike">
                <a:solidFill>
                  <a:srgbClr val="333399"/>
                </a:solidFill>
                <a:latin typeface="Verdana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i="1" lang="fr-FR" sz="1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i="1" lang="fr-FR" sz="2400" spc="-1" strike="noStrike">
                <a:solidFill>
                  <a:srgbClr val="333399"/>
                </a:solidFill>
                <a:latin typeface="Verdana"/>
                <a:ea typeface="Times New Roman"/>
              </a:rPr>
              <a:t>d’être en même temps sujet et objet de l’ac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2.1.2. Composantes « sensitive et sensorielle 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838080" y="1828440"/>
            <a:ext cx="74678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i="1" lang="fr-FR" sz="2800" spc="-1" strike="noStrike">
                <a:solidFill>
                  <a:srgbClr val="333399"/>
                </a:solidFill>
                <a:latin typeface="Arial"/>
              </a:rPr>
              <a:t>Le pratiquant effectue une «Lecture sensori-motrice et cognitive 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i="1" lang="fr-FR" sz="2800" spc="-1" strike="noStrike">
                <a:solidFill>
                  <a:srgbClr val="333399"/>
                </a:solidFill>
                <a:latin typeface="Arial"/>
              </a:rPr>
              <a:t>de</a:t>
            </a:r>
            <a:r>
              <a:rPr b="1" i="1" lang="fr-FR" sz="2800" spc="-1" strike="noStrike">
                <a:solidFill>
                  <a:srgbClr val="333399"/>
                </a:solidFill>
                <a:latin typeface="Arial"/>
              </a:rPr>
              <a:t>…«</a:t>
            </a:r>
            <a:r>
              <a:rPr b="1" i="1" lang="fr-FR" sz="2800" spc="-1" strike="noStrike" u="sng">
                <a:solidFill>
                  <a:srgbClr val="333399"/>
                </a:solidFill>
                <a:uFillTx/>
                <a:latin typeface="Arial"/>
              </a:rPr>
              <a:t> l’expérience énergétique 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i="1" lang="fr-FR" sz="2800" spc="-1" strike="noStrike">
                <a:solidFill>
                  <a:srgbClr val="333399"/>
                </a:solidFill>
                <a:latin typeface="Arial"/>
              </a:rPr>
              <a:t>( il construit un affinement du ressenti et de son expression par une « didactique du sensible », par une « histoire du corps sensible</a:t>
            </a:r>
            <a:r>
              <a:rPr b="0" i="1" lang="fr-FR" sz="3200" spc="-1" strike="noStrike">
                <a:solidFill>
                  <a:srgbClr val="333399"/>
                </a:solidFill>
                <a:latin typeface="Arial"/>
              </a:rPr>
              <a:t> » 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305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2.1.3. Composantes biologiques (bio fonctionnelles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533160" y="1218960"/>
            <a:ext cx="83818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333399"/>
                </a:solidFill>
                <a:latin typeface="Arial"/>
              </a:rPr>
              <a:t>Données scientifiques actuelles sur le développement des qualités d’endurance, de force/puissance chez les adolescent-e-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i="1" lang="fr-FR" sz="2800" spc="-1" strike="noStrike">
                <a:solidFill>
                  <a:srgbClr val="333399"/>
                </a:solidFill>
                <a:latin typeface="Arial"/>
              </a:rPr>
              <a:t>sur les </a:t>
            </a:r>
            <a:r>
              <a:rPr b="1" i="1" lang="fr-FR" sz="2800" spc="-1" strike="noStrike" u="sng">
                <a:solidFill>
                  <a:srgbClr val="333399"/>
                </a:solidFill>
                <a:uFillTx/>
                <a:latin typeface="Arial"/>
              </a:rPr>
              <a:t>conditions de la sollicitation</a:t>
            </a:r>
            <a:r>
              <a:rPr b="0" i="1" lang="fr-FR" sz="2800" spc="-1" strike="noStrike">
                <a:solidFill>
                  <a:srgbClr val="333399"/>
                </a:solidFill>
                <a:latin typeface="Arial"/>
              </a:rPr>
              <a:t> du système énergétique de la contraction musculaire, sur les possibilités de mesure de sa transformation avec tests de terra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7620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2.1.4. Composante affective, motivationnel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151920" y="1066320"/>
            <a:ext cx="899172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333399"/>
                </a:solidFill>
                <a:latin typeface="Arial"/>
              </a:rPr>
              <a:t>Des motifs spontanés d’un « se dépenser physiquement</a:t>
            </a:r>
            <a:r>
              <a:rPr b="1" i="1" lang="fr-FR" sz="2400" spc="-1" strike="noStrike">
                <a:solidFill>
                  <a:srgbClr val="333399"/>
                </a:solidFill>
                <a:latin typeface="Arial"/>
              </a:rPr>
              <a:t> 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i="1" lang="fr-FR" sz="2000" spc="-1" strike="noStrike" u="sng">
                <a:solidFill>
                  <a:srgbClr val="333399"/>
                </a:solidFill>
                <a:uFillTx/>
                <a:latin typeface="Arial"/>
              </a:rPr>
              <a:t>à des motifs plus construi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333399"/>
                </a:solidFill>
                <a:latin typeface="Arial"/>
              </a:rPr>
              <a:t>Les jeux d’exercice (Château), fonctionnels (Wallon), de vertige (Caillois) l’épreuve (B. Jeu), les « promenades » : </a:t>
            </a:r>
            <a:r>
              <a:rPr b="1" i="1" lang="fr-FR" sz="2000" spc="-1" strike="noStrike">
                <a:solidFill>
                  <a:srgbClr val="333399"/>
                </a:solidFill>
                <a:latin typeface="Arial"/>
              </a:rPr>
              <a:t>« c’est à la promenade que j’écrit dans mon cerveau »</a:t>
            </a:r>
            <a:r>
              <a:rPr b="0" i="1" lang="fr-FR" sz="2000" spc="-1" strike="noStrike">
                <a:solidFill>
                  <a:srgbClr val="333399"/>
                </a:solidFill>
                <a:latin typeface="Arial"/>
              </a:rPr>
              <a:t> (Rousseau</a:t>
            </a:r>
            <a:r>
              <a:rPr b="0" i="1" lang="fr-FR" sz="1600" spc="-1" strike="noStrike">
                <a:solidFill>
                  <a:srgbClr val="333399"/>
                </a:solidFill>
                <a:latin typeface="Arial"/>
              </a:rPr>
              <a:t>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333399"/>
                </a:solidFill>
                <a:latin typeface="Arial"/>
              </a:rPr>
              <a:t>Des pratiques ancestrales liées à l’action sur les corps (le non mouvement, le sauna, les hammams…révèlent les fondements d’un tel proj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i="1" lang="fr-FR" sz="2000" spc="-1" strike="noStrike">
                <a:solidFill>
                  <a:srgbClr val="333399"/>
                </a:solidFill>
                <a:latin typeface="Arial"/>
              </a:rPr>
              <a:t>Des pratiques maintenant sportives, initialement liées à la recherche d’états physiques (boxe française, culture physique de Desbonnet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333399"/>
                </a:solidFill>
                <a:latin typeface="Arial"/>
              </a:rPr>
              <a:t>Une culture du physique liée à pour les jeunes, à des objectifs de développement EVALUABLES (la mesure de soi contribue probablement à la construction de son identité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10920" y="476280"/>
            <a:ext cx="78454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Un savoir S’entraîner scolaire : c’est-à-dire ?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11280" y="1341000"/>
            <a:ext cx="815184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n introduction le but du propos, et… ce que je ne traite p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’entraînement : des « pratiques » (s’entraîner, entraîner), qui s’appuient sur des savoirs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’entraînement comme « activité »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- une activité adaptative humaine complex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- savoir S’entraîner : une compétence qui se constru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- certains traits de cette activité sont-ils accessibles à l’école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Savoir S’entraîner, un objet d’enseignement scolaire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Pourquoi 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Comment 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A quelles conditions 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En conclusion l’EPS et ses acteurs comme ressource éducative remarquable… et méconnue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2.1.5. Composante cogni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333399"/>
                </a:solidFill>
                <a:latin typeface="Arial"/>
              </a:rPr>
              <a:t>« Il s’agit d’établir un contrôle sur les états d’un objet en cours de transformation et impliquant des …anticipations… et rétroactions à réaliser sur des états »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333399"/>
                </a:solidFill>
                <a:latin typeface="Arial"/>
              </a:rPr>
              <a:t>De  rendre conscient le contrôle de l’action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i="1" lang="fr-FR" sz="2400" spc="-1" strike="noStrike">
                <a:solidFill>
                  <a:srgbClr val="333399"/>
                </a:solidFill>
                <a:latin typeface="Arial"/>
              </a:rPr>
              <a:t>- Terme adopté </a:t>
            </a:r>
            <a:r>
              <a:rPr b="1" i="1" lang="fr-FR" sz="2400" spc="-1" strike="noStrike">
                <a:solidFill>
                  <a:srgbClr val="333399"/>
                </a:solidFill>
                <a:latin typeface="Arial"/>
              </a:rPr>
              <a:t>« </a:t>
            </a:r>
            <a:r>
              <a:rPr b="1" i="1" lang="fr-FR" sz="2400" spc="-1" strike="noStrike" u="sng">
                <a:solidFill>
                  <a:srgbClr val="333399"/>
                </a:solidFill>
                <a:uFillTx/>
                <a:latin typeface="Arial"/>
              </a:rPr>
              <a:t>procéduralisation</a:t>
            </a:r>
            <a:r>
              <a:rPr b="1" i="1" lang="fr-FR" sz="2400" spc="-1" strike="noStrike">
                <a:solidFill>
                  <a:srgbClr val="333399"/>
                </a:solidFill>
                <a:latin typeface="Arial"/>
              </a:rPr>
              <a:t> »</a:t>
            </a:r>
            <a:r>
              <a:rPr b="0" i="1" lang="fr-FR" sz="2400" spc="-1" strike="noStrike">
                <a:solidFill>
                  <a:srgbClr val="333399"/>
                </a:solidFill>
                <a:latin typeface="Arial"/>
              </a:rPr>
              <a:t> (G. Malglai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333399"/>
                </a:solidFill>
                <a:latin typeface="Arial"/>
              </a:rPr>
              <a:t>Des outils extraordinaires pour conduire ce travail réflexif : les ressources de l’informatiq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2.2. « savoir S’entraîner » : une compétence qui se construit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8360" y="228600"/>
            <a:ext cx="798984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2.2. - savoir S’entraîner : une compétence qui se construit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Ces composantes s’organisent dans l’expérience personnelle dans un « parcours » semé d’embûches (rapport à l’effort, se projeter vers l’avenir, faire évoluer ses motivations…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En période de développement il est plus ou moins pertinent d’intervenir sur telle ou telle ressour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Les « expériences » de dépense physique hors et dans l’école se coordonnent-t-elles pour faire sens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La question du « réinvestissement » de ce qu’offre l’apprentissage de l’entra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înement dans d’autres champs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2.3. 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En conclusion ce second point : certains traits de cette activité sont - ils accessibles à l’école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8360" y="304920"/>
            <a:ext cx="8447040" cy="67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2.3.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En conclusion ce second point : certains traits de cette activité sont - ils accessibles à l’école 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80880" y="1904760"/>
            <a:ext cx="83822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e ne sont pas les pratiques qu’il faut transposer mai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« l’expérience de l’entraînement », l’activité humaine qui l’accompagne, dans les conditions scolai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Toutes les «spécialités » sont bonnes à prendre tant qu’elles permettent cette « expérience 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’expérience ne suffit pas : une « relecture compréhensive » s’impose ! Condition pour transformer cette expérience en compétence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4360" y="609120"/>
            <a:ext cx="77738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2.3. En conclusion ce second point…  sui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es pratiques scolaires d'entraînement doivent donc être conçues, à partir des contraintes et des ressources que propose le milieu scolaire et les caractéristiques de élèv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e « Savoir s’entraîner » comme aboutissement d’un parcours de formation… Sur un « bruit de fond » permanent, des périodes favorables pour un enseignement systématique. Exemple : en quatrième au collège. En première au lycé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39280" y="609120"/>
            <a:ext cx="822348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-838080"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Savoir S’entraîner Physiquement, un objet d’enseignement scolaire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 ?</a:t>
            </a:r>
            <a:br>
              <a:rPr sz="2800"/>
            </a:br>
            <a:br>
              <a:rPr sz="2800"/>
            </a:b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3.1. Pourquoi ?</a:t>
            </a:r>
            <a:br>
              <a:rPr sz="2800"/>
            </a:b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’enjeu majeur d’un « savoir intervenir » sur les propriétés de son fonctionnement corporel : l’éducation à la santé.</a:t>
            </a:r>
            <a:br>
              <a:rPr sz="1800"/>
            </a:b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3.2. Comment ?</a:t>
            </a:r>
            <a:br>
              <a:rPr sz="2800"/>
            </a:b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Rendre l’élève acteur, forcément !</a:t>
            </a:r>
            <a:br>
              <a:rPr sz="2000"/>
            </a:b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3.3. A quelles conditions ?</a:t>
            </a:r>
            <a:br>
              <a:rPr sz="2800"/>
            </a:b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Un parcours de formation perti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3.1. Un savoir S’entraîner scolaire : Pourquoi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83059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3.1. Pourquoi ?</a:t>
            </a:r>
            <a:br>
              <a:rPr sz="1800"/>
            </a:br>
            <a:br>
              <a:rPr sz="3200"/>
            </a:b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L’enjeu majeur d’un « savoir intervenir » sur les propriétés de son fonctionnement corporel :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l’éducation à la santé.</a:t>
            </a:r>
            <a:br>
              <a:rPr sz="2000"/>
            </a:br>
            <a:br>
              <a:rPr sz="2000"/>
            </a:b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Quelques définitions…(O.M.S. + divers)</a:t>
            </a:r>
            <a:br>
              <a:rPr sz="2000"/>
            </a:b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1" i="1" lang="fr-FR" sz="2000" spc="-1" strike="noStrike">
                <a:solidFill>
                  <a:srgbClr val="333399"/>
                </a:solidFill>
                <a:latin typeface="Arial"/>
              </a:rPr>
              <a:t>La « santé » comme capacité d’adaptation, comme possibilité d’affrontement des situations de vie, comme sentiment de bien-être (comme rapport à soi, à autrui, au monde social, à l’environnement)</a:t>
            </a:r>
            <a:br>
              <a:rPr sz="2800"/>
            </a:br>
            <a:br>
              <a:rPr sz="3200"/>
            </a:br>
            <a:r>
              <a:rPr b="1" i="1" lang="fr-FR" sz="2000" spc="-1" strike="noStrike">
                <a:solidFill>
                  <a:srgbClr val="333399"/>
                </a:solidFill>
                <a:latin typeface="Arial"/>
              </a:rPr>
              <a:t>« Pour chaque homme, c’est d’avoir les moyens de tracer le cheminement personnel vers le bien-être physique psychique et moral » </a:t>
            </a:r>
            <a:br>
              <a:rPr sz="1200"/>
            </a:br>
            <a:br>
              <a:rPr sz="1200"/>
            </a:br>
            <a:br>
              <a:rPr sz="1800"/>
            </a:br>
            <a:r>
              <a:rPr b="1" i="1" lang="fr-FR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i="1" lang="fr-FR" sz="2000" spc="-1" strike="noStrike" u="sng">
                <a:solidFill>
                  <a:srgbClr val="333399"/>
                </a:solidFill>
                <a:uFillTx/>
                <a:latin typeface="Arial"/>
              </a:rPr>
              <a:t>L’éducation pour la santé contribue à la construction par les élèves d’indicateurs perceptuels, fonctionnels et adaptatifs d’un « état de santé » (bien être)</a:t>
            </a: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Suite  Pourquoi un « savoir S’entra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îner » à l’école ?…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1. 1. On sait que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la jeunesse reste sensible aux conduites addictives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  de toute nature : un impératif social de lutte contre cette tendance.</a:t>
            </a:r>
            <a:br>
              <a:rPr sz="2000"/>
            </a:br>
            <a:br>
              <a:rPr sz="2000"/>
            </a:b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1.2.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Face aux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diversités des cultures des élèves concernant leur rapport au corps, leur vécu et leurs habitus touchant à l’effort et à la dépense physique :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une exigence de démocratisation</a:t>
            </a:r>
            <a:br>
              <a:rPr sz="2000"/>
            </a:b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1800"/>
            </a:b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1.3.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L’école comme lieu privilégié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de possibilité de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mise en synergie des connaissances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pour travailler l’image que les élèves ont d’eux mêmes, leur identité de genre :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une possible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efficacité</a:t>
            </a:r>
            <a:br>
              <a:rPr sz="1800"/>
            </a:br>
            <a:br>
              <a:rPr sz="16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424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En introduction le but du propos, et… </a:t>
            </a: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ce qui n’est pas traité.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80880" y="1844280"/>
            <a:ext cx="836784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0000"/>
                </a:solidFill>
                <a:latin typeface="Arial"/>
              </a:rPr>
              <a:t>Le but : tenter de démontrer qu’à certaines conditions, il est possible de transmettre aux élèves un </a:t>
            </a:r>
            <a:r>
              <a:rPr b="1" lang="fr-FR" sz="1900" spc="-1" strike="noStrike">
                <a:solidFill>
                  <a:srgbClr val="000000"/>
                </a:solidFill>
                <a:latin typeface="Arial"/>
              </a:rPr>
              <a:t>« savoir S’entraîner »</a:t>
            </a:r>
            <a:r>
              <a:rPr b="0" lang="fr-FR" sz="1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0000"/>
                </a:solidFill>
                <a:latin typeface="Arial"/>
              </a:rPr>
              <a:t>Ces conditions supposent des </a:t>
            </a:r>
            <a:r>
              <a:rPr b="1" lang="fr-FR" sz="1900" spc="-1" strike="noStrike">
                <a:solidFill>
                  <a:srgbClr val="000000"/>
                </a:solidFill>
                <a:latin typeface="Arial"/>
              </a:rPr>
              <a:t>ruptures avec des conceptions exclusivement « sportives »</a:t>
            </a:r>
            <a:r>
              <a:rPr b="0" lang="fr-FR" sz="1900" spc="-1" strike="noStrike">
                <a:solidFill>
                  <a:srgbClr val="000000"/>
                </a:solidFill>
                <a:latin typeface="Arial"/>
              </a:rPr>
              <a:t> de l’entraînement au profit d’une approche  anthropologique de  « l’expérience physique » de l’entraînement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0000"/>
                </a:solidFill>
                <a:latin typeface="Arial"/>
              </a:rPr>
              <a:t>Je ne suis pas spécialisé dans la physiologie de l’entraînement sportif. Je travaille </a:t>
            </a:r>
            <a:r>
              <a:rPr b="1" lang="fr-FR" sz="1900" spc="-1" strike="noStrike">
                <a:solidFill>
                  <a:srgbClr val="000000"/>
                </a:solidFill>
                <a:latin typeface="Arial"/>
              </a:rPr>
              <a:t>les contenus de l’EPS</a:t>
            </a:r>
            <a:r>
              <a:rPr b="0" lang="fr-FR" sz="1900" spc="-1" strike="noStrike">
                <a:solidFill>
                  <a:srgbClr val="000000"/>
                </a:solidFill>
                <a:latin typeface="Arial"/>
              </a:rPr>
              <a:t>, dans leurs relations avec les cultures corporelles qu’il est possible et souhaitable de communiquer aux élève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Suite  Pourquoi un « savoir S’entra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îner » à l’école ?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04920" y="1676520"/>
            <a:ext cx="8534160" cy="46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.4.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Croyances et représentations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des élèves à propos de leur fonctionnement corporel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L’école comme lieu de 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mise à distance, de rationalisation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br>
              <a:rPr sz="1800"/>
            </a:br>
            <a:br>
              <a:rPr sz="1600"/>
            </a:b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.5. 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L’adolescence et la fabrication de la sédentarité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. Des corps instrumentés sur le pôle de la sexualisation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Des confusions entretenues : sensations émotions sentiments : 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l’école comme lieu d’ouverture culturelle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Mais l’EPS n’est pas « propriétaire » de la formation corporelle des élèves (plus de 50%  pratiquent des APSA en dehors de l’école). Par contre, elle doit exercer une responsabilité  particulière et en évaluer ses effets !</a:t>
            </a:r>
            <a:br>
              <a:rPr sz="2000"/>
            </a:br>
            <a:br>
              <a:rPr sz="28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3160" y="304560"/>
            <a:ext cx="792468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3.2. Un savoir S’entraîner scolaire : </a:t>
            </a:r>
            <a:br>
              <a:rPr sz="3200"/>
            </a:br>
            <a:br>
              <a:rPr sz="3200"/>
            </a:b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Comment ?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001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3.2. Comment ?</a:t>
            </a:r>
            <a:br>
              <a:rPr sz="32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Des programmes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et des contenus (lycé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es modalités d’</a:t>
            </a:r>
            <a:r>
              <a:rPr b="0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évaluation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(référentiel lycé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es procédés de </a:t>
            </a:r>
            <a:r>
              <a:rPr b="0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motivation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(motifs personnalisé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es recommandations « transversales » (collèg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es </a:t>
            </a:r>
            <a:r>
              <a:rPr b="0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démarches :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l’élève construit ses connaissances par l’action et la prise d’initi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es </a:t>
            </a:r>
            <a:r>
              <a:rPr b="0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activités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sous forme de « procédés » (collège), ou de spécialités (lycées) transposées dans le monde scola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a mise en perspective d’une </a:t>
            </a:r>
            <a:r>
              <a:rPr b="0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culture scolaire du «savoir S’entra</a:t>
            </a:r>
            <a:r>
              <a:rPr b="0" lang="fr-FR" sz="24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îner »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(les ASDE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3.3. Un savoir S’entraîner scolaire :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A quelles conditions ?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773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3.3. A quelles conditions ?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3352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Un parcours de formation pertinent et continu des élèves, obligation scolaire dans une visée de globalité d’approc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Des prises de consciences politiques de la force de frappe que représente la masse des enseignants EP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Une commande claire des pouvoirs publics vers le « corps 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Des recherches sur les conditions de transformation et de suivi de l’état sanitaire de la jeunes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Des programmes d’action pluridisciplinaires et inter catégoriels initiés dans les régions. (Cf. LIL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De la formation continue alimentée par des travaux d’équipe de recherche pluri disciplinaires (Cf. ici dans les années 199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Conclusions de l’expos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6705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1. Des questions en suspe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2. Des enjeux économiques…auss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3. Que vive une EPS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7924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0000"/>
                </a:solidFill>
                <a:uFillTx/>
                <a:latin typeface="Arial"/>
              </a:rPr>
              <a:t>1. Des questions en suspe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Pas de continuité entre les cycles d’enseigne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L’EPS exclue du socle des fondamentaux au collèg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Des difficultés pour fournir des repères sous forme de normes correspondant au projet éducatif du « savoir S’entra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îner 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Un champ en développement mais insuffisamment « mature 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L’EPS largement absente des discours politiques et médiatiques, victime des confusions avec le sport, l’activité physiqu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0000"/>
                </a:solidFill>
                <a:uFillTx/>
                <a:latin typeface="Arial"/>
              </a:rPr>
              <a:t>2. Des enjeux économiques auss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Certes l’EPS coûte cher… Mais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Citation extraite du somment mondial de l’EPS (Kidd B. , Berlin 1999).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…  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Négliger l’éducation Physique se révèlera plus coûteux que de l’enseigner…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Pour 1 $ investi, gain de productivité de 2 à 5 $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 u="sng">
                <a:solidFill>
                  <a:srgbClr val="15801a"/>
                </a:solidFill>
                <a:uFillTx/>
                <a:latin typeface="Arial"/>
              </a:rPr>
              <a:t>3. Que vive une EPS</a:t>
            </a:r>
            <a:r>
              <a:rPr b="1" lang="fr-FR" sz="3600" spc="-1" strike="noStrike" u="sng">
                <a:solidFill>
                  <a:srgbClr val="009999"/>
                </a:solidFill>
                <a:uFillTx/>
                <a:latin typeface="Arial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15801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15801a"/>
                </a:solidFill>
                <a:latin typeface="Arial"/>
              </a:rPr>
              <a:t>Ouverte de façon critique sur toutes les cultures relatives aux activités corporel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15801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15801a"/>
                </a:solidFill>
                <a:latin typeface="Arial"/>
              </a:rPr>
              <a:t>Soutenue par des enseignants engagés et convaincus de leur mission (rôle essentiel des organisations professionnell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15801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15801a"/>
                </a:solidFill>
                <a:latin typeface="Arial"/>
              </a:rPr>
              <a:t>Accompagnée par les collectivités territoriales pour la transformation des conditions de pratique, par l’encadrement de proximit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15801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15801a"/>
                </a:solidFill>
                <a:latin typeface="Arial"/>
              </a:rPr>
              <a:t>Prise en considération par la classe politique, par les médias : des horaires, des attentes à formuler vers les acteurs de l’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685800" y="476280"/>
            <a:ext cx="7989840" cy="56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333399"/>
                </a:solidFill>
                <a:latin typeface="Arial"/>
              </a:rPr>
              <a:t>Avec tous mes remerciements pour votre attention,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333399"/>
                </a:solidFill>
                <a:latin typeface="Arial"/>
              </a:rPr>
              <a:t>e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333399"/>
                </a:solidFill>
                <a:latin typeface="Arial"/>
              </a:rPr>
              <a:t>pour votre accueil chaleureux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50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50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50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50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50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50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000" y="907560"/>
            <a:ext cx="7846920" cy="31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1. L’entraînement : des « pratiques » (s’entraîner, entraîner), qui s’appuient sur des savoirs…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50560" y="404640"/>
            <a:ext cx="856908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1</a:t>
            </a:r>
            <a:r>
              <a:rPr b="1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. L’entraînement : des pratiques (s’entraîner, entraîner), qui </a:t>
            </a:r>
            <a:r>
              <a:rPr b="1" lang="fr-FR" sz="1400" spc="-1" strike="noStrike" u="sng">
                <a:solidFill>
                  <a:srgbClr val="000000"/>
                </a:solidFill>
                <a:uFillTx/>
                <a:latin typeface="Arial"/>
              </a:rPr>
              <a:t>s’appuient</a:t>
            </a:r>
            <a:r>
              <a:rPr b="1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 sur des savoirs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33160" y="1773360"/>
            <a:ext cx="8305560" cy="462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1.1. Quelques termes utilisés spontané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1.2. Un processus de  historique de construction et d’articulation des savoirs empiriques et scientifiqu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1.3. Des pratiques, des savoirs : le « S’entraîner » comme une action complexe à défini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81374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1.1. Quelques termes utilisés spontanément, </a:t>
            </a: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qu’il est nécessaire de différencier!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-360" y="1752480"/>
            <a:ext cx="89154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Savoir comme connaissances mobilisable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Entraîner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Etre entraîné par…(la mode du « coaching »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’entraînement (pas seulement sporti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Savoir entraîner comme compétence « professionnelle 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S’entraî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Savoir S’entraîner comme résultat d’une pratique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es pratiques, des 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Une activité ( des processus), en arrière plan de ces 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1.2. Un processus de  historique de construction et d’articulation des savoirs empiriques et scientif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a construction des savoirs de l’entraînement sportif : une histoire significative pour l’éducate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e dépassement de croyances voir de dogmes (pulsations 14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’incorporation de connaissances scientifiques concernant les processus invisibles à l’œuv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e dialogue praticiens/chercheurs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es savoirs empiriques construits dans la relation entraîneur athlè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1.3. Des pratiques, des savoirs : le « S’entraîner » comme action complexe : quelle action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1.3.1. Caractéristiques de cette 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-  1.3.2. Des principes d’efficacité connus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oncernant cette 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- 1.3.3. Une ou des cultures de l’entraînement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?</a:t>
            </a: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7" name=""/>
          <p:cNvGraphicFramePr/>
          <p:nvPr/>
        </p:nvGraphicFramePr>
        <p:xfrm>
          <a:off x="108000" y="1197000"/>
          <a:ext cx="9036000" cy="5173560"/>
        </p:xfrm>
        <a:graphic>
          <a:graphicData uri="http://schemas.openxmlformats.org/drawingml/2006/table">
            <a:tbl>
              <a:tblPr/>
              <a:tblGrid>
                <a:gridCol w="2987640"/>
                <a:gridCol w="60483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’entraîne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mme…AC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fr-FR" sz="18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Action d’intervention d’un pratiquant sur ses propres ressources bio-fonctionnel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Qui utilise des  </a:t>
                      </a:r>
                      <a:r>
                        <a:rPr b="1" lang="en-US" sz="1800" spc="-1" strike="noStrike" u="sng">
                          <a:solidFill>
                            <a:srgbClr val="336600"/>
                          </a:solidFill>
                          <a:uFillTx/>
                          <a:latin typeface="Times New Roman"/>
                          <a:ea typeface="Times New Roman"/>
                        </a:rPr>
                        <a:t>MOYEN</a:t>
                      </a:r>
                      <a:r>
                        <a:rPr b="1" lang="en-US" sz="18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S </a:t>
                      </a:r>
                      <a:r>
                        <a:rPr b="1" lang="fr-FR" sz="18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définis</a:t>
                      </a:r>
                      <a:r>
                        <a:rPr b="1" lang="en-US" sz="18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 pour intervenir sur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EXEMPLE : NATATION,  COURSE A PIED DE  DISTANCE…Comme moye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8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336600"/>
                          </a:solidFill>
                          <a:uFillTx/>
                          <a:latin typeface="Times New Roman"/>
                          <a:ea typeface="Times New Roman"/>
                        </a:rPr>
                        <a:t>Un OBJET</a:t>
                      </a:r>
                      <a:r>
                        <a:rPr b="1" lang="en-US" sz="18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 déterminé en vue d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fr-FR" sz="14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LE  </a:t>
                      </a:r>
                      <a:r>
                        <a:rPr b="1" lang="fr-FR" sz="16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FONCTIONNEMENT AÉROBIE du système énergétique de la contraction musculai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45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336600"/>
                          </a:solidFill>
                          <a:uFillTx/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336600"/>
                          </a:solidFill>
                          <a:uFillTx/>
                          <a:latin typeface="Times New Roman"/>
                          <a:ea typeface="Times New Roman"/>
                        </a:rPr>
                        <a:t>le TRANSFORM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et d’obteni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Le développement de la capacité d’endura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336600"/>
                          </a:solidFill>
                          <a:uFillTx/>
                          <a:latin typeface="Times New Roman"/>
                          <a:ea typeface="Times New Roman"/>
                        </a:rPr>
                        <a:t>un RESULTAT</a:t>
                      </a:r>
                      <a:r>
                        <a:rPr b="1" lang="en-US" sz="18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 attendu estimé au travers d’indices objectifs </a:t>
                      </a:r>
                      <a:r>
                        <a:rPr b="1" lang="en-US" sz="16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de la transform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Les élèves se fixent des caractéristiques de paramètres de charge à réaliser. Ils prévoient d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effets attendus  sur </a:t>
                      </a:r>
                      <a:r>
                        <a:rPr b="1" lang="fr-FR" sz="1800" spc="-1" strike="noStrike" u="sng">
                          <a:solidFill>
                            <a:srgbClr val="333399"/>
                          </a:solidFill>
                          <a:uFillTx/>
                          <a:latin typeface="Arial"/>
                          <a:ea typeface="Arial"/>
                        </a:rPr>
                        <a:t>divers indices objectifs (mesure, tests) et subjectifs (pulsations cardiaques, ressentis),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8" name=""/>
          <p:cNvSpPr/>
          <p:nvPr/>
        </p:nvSpPr>
        <p:spPr>
          <a:xfrm>
            <a:off x="971640" y="189000"/>
            <a:ext cx="662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979640" y="333360"/>
            <a:ext cx="554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1.3.1. Caractéristiques de cette 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19:24:48Z</dcterms:created>
  <dc:creator/>
  <dc:description/>
  <dc:language>en-US</dc:language>
  <cp:lastModifiedBy>rAYMOND dlm</cp:lastModifiedBy>
  <dcterms:modified xsi:type="dcterms:W3CDTF">2006-06-07T08:49:08Z</dcterms:modified>
  <cp:revision>28</cp:revision>
  <dc:subject/>
  <dc:title>PowerPoint Presentation</dc:title>
</cp:coreProperties>
</file>